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833-A809-409C-BCFD-F6855F66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3BB-9943-49B6-A1E7-BE66B7E2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2EA-4901-4639-9ED0-86F5D9B8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6C7-789B-4E9A-95BE-A0F0E1E6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A88-472C-4B49-BAEC-D91DE4B6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922-27C8-4620-9566-63EE0A55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F98-1D37-4204-A3E0-4D1BFD3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5DA-6B99-496A-930F-0AEE64AA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62A-7B3E-44F5-B949-209FE65E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BCC-C608-4E3D-BEDB-5460AD1E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AB6-F0CB-46B4-AF11-5FA0FD5A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198-5E0C-4B4D-8CA4-0E0C64B9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91F8-E399-4B65-97A5-9EF9DE0DE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2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glory and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5:51Z</dcterms:created>
  <dc:creator>Anon Anon</dc:creator>
  <dc:description/>
  <dc:language>en-US</dc:language>
  <cp:lastModifiedBy>Anon Anon</cp:lastModifiedBy>
  <dcterms:modified xsi:type="dcterms:W3CDTF">2005-08-09T05:24:45Z</dcterms:modified>
  <cp:revision>11</cp:revision>
  <dc:subject/>
  <dc:title>PowerPoint Presentation</dc:title>
</cp:coreProperties>
</file>